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.wmf" ContentType="image/x-wmf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30.png" ContentType="image/png"/>
  <Override PartName="/ppt/media/image41.png" ContentType="image/png"/>
  <Override PartName="/ppt/media/image43.wmf" ContentType="image/x-wmf"/>
  <Override PartName="/ppt/media/image33.png" ContentType="image/png"/>
  <Override PartName="/ppt/media/image44.wmf" ContentType="image/x-wmf"/>
  <Override PartName="/ppt/media/image45.png" ContentType="image/png"/>
  <Override PartName="/ppt/media/image34.wmf" ContentType="image/x-wmf"/>
  <Override PartName="/ppt/media/image49.png" ContentType="image/png"/>
  <Override PartName="/ppt/media/image46.wmf" ContentType="image/x-wmf"/>
  <Override PartName="/ppt/media/image26.png" ContentType="image/png"/>
  <Override PartName="/ppt/media/image48.png" ContentType="image/png"/>
  <Override PartName="/ppt/media/image53.wmf" ContentType="image/x-wmf"/>
  <Override PartName="/ppt/media/image13.png" ContentType="image/png"/>
  <Override PartName="/ppt/media/image11.wmf" ContentType="image/x-wmf"/>
  <Override PartName="/ppt/media/image50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52.png" ContentType="image/png"/>
  <Override PartName="/ppt/media/image42.wmf" ContentType="image/x-wmf"/>
  <Override PartName="/ppt/media/image39.png" ContentType="image/png"/>
  <Override PartName="/ppt/media/image9.png" ContentType="image/png"/>
  <Override PartName="/ppt/media/image51.png" ContentType="image/png"/>
  <Override PartName="/ppt/media/image12.wmf" ContentType="image/x-wmf"/>
  <Override PartName="/ppt/media/image4.png" ContentType="image/png"/>
  <Override PartName="/ppt/media/image27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5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99075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9699-E473-4FB5-95BB-CECF9A384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E389-BE63-427F-993A-FDB8360E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B14A-1A4A-4448-B6B7-0CF32DAA7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492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856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492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856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A777-7896-4A41-BB96-24C0D7F1A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1C6A-19A3-4221-9741-D6D25E7C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FD6D-F037-4A48-BB16-BD4F96B0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E2FA-3CAD-4B23-ACD3-B006636B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DE87-7EBB-48EA-9B3D-2BA63C5A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60FC-42EF-4904-A9EE-B01DFC32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120" y="379800"/>
            <a:ext cx="84250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F960-32AD-480E-8F77-833ABE8E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3CDD-20F6-465B-9522-32588F86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C495-828A-4687-BE5E-0C032F5B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5EA7-9AC9-4443-A0C5-9D51F86A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CE9D-1E36-4E6B-91C3-5B543B67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05D8-8F5A-42CF-8A92-4B087CD9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36F6-7602-481A-8D6A-292ED734B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5492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9856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1128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5492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9856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6610-F2EE-4913-871D-E6DDB9CC7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338E-A1E9-426E-99C0-A8D5128C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111F-7665-4F70-B274-2E5BF8F2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ECD9-FB66-4A9F-AB60-A354E189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79800"/>
            <a:ext cx="84250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13F3-6DD0-47CE-AA5C-A6FAEEE8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383A-DDBA-45EA-BC48-71F2FF59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D198-F923-4A89-ADA2-C2154CA0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6A9E-7CEA-433D-A1BF-F6818CD4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8584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44600" y="6276960"/>
            <a:ext cx="491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95120" y="6286680"/>
            <a:ext cx="125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D7AB-A3C7-4F75-913C-61B2B22B4DB6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5120" y="6286680"/>
            <a:ext cx="61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F6D2-82A0-4A6C-8263-44250193BC2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850680"/>
            <a:ext cx="7678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35C9-EA3E-42B6-B46F-0D136831F6A6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7007-313E-4A69-82E7-2BB0377FC885}" type="slidenum">
              <a:rPr b="0" lang="de-DE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4760" y="664380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33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0800" y="1195920"/>
            <a:ext cx="8615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cc3300"/>
                </a:solidFill>
                <a:latin typeface="Verdana"/>
              </a:rPr>
              <a:t>Probabilistic Robotics</a:t>
            </a:r>
            <a:endParaRPr b="1" lang="en-US" sz="4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952560" y="4411800"/>
            <a:ext cx="73803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Probabilistic Motion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Odometry Model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800280" y="2463840"/>
            <a:ext cx="4546440" cy="2184480"/>
            <a:chOff x="800280" y="2463840"/>
            <a:chExt cx="4546440" cy="2184480"/>
          </a:xfrm>
        </p:grpSpPr>
        <p:sp>
          <p:nvSpPr>
            <p:cNvPr id="142" name=""/>
            <p:cNvSpPr/>
            <p:nvPr/>
          </p:nvSpPr>
          <p:spPr>
            <a:xfrm>
              <a:off x="800280" y="2463840"/>
              <a:ext cx="4546440" cy="2184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" name=""/>
                <p:cNvSpPr txBox="1"/>
                <p:nvPr/>
              </p:nvSpPr>
              <p:spPr>
                <a:xfrm>
                  <a:off x="1027080" y="2523960"/>
                  <a:ext cx="3934800" cy="66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rans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(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'</m:t>
                          </m:r>
                          <m:r>
                            <m:t xml:space="preserve">−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y</m:t>
                              </m:r>
                            </m:e>
                          </m:acc>
                          <m:r>
                            <m:t xml:space="preserve">'</m:t>
                          </m:r>
                          <m:r>
                            <m:t xml:space="preserve">−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y</m:t>
                              </m:r>
                            </m:e>
                          </m:acc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"/>
                <p:cNvSpPr txBox="1"/>
                <p:nvPr/>
              </p:nvSpPr>
              <p:spPr>
                <a:xfrm>
                  <a:off x="1027080" y="3228840"/>
                  <a:ext cx="414432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ot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atan2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y</m:t>
                          </m:r>
                        </m:e>
                      </m:acc>
                      <m:r>
                        <m:t xml:space="preserve">'</m:t>
                      </m:r>
                      <m:r>
                        <m:t xml:space="preserve">−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y</m:t>
                          </m:r>
                        </m:e>
                      </m:acc>
                      <m:r>
                        <m:t xml:space="preserve">,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'</m:t>
                      </m:r>
                      <m:r>
                        <m:t xml:space="preserve">−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−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θ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1027080" y="3889440"/>
                  <a:ext cx="270288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ot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θ</m:t>
                          </m:r>
                        </m:e>
                      </m:acc>
                      <m:r>
                        <m:t xml:space="preserve">'</m:t>
                      </m:r>
                      <m:r>
                        <m:t xml:space="preserve">−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θ</m:t>
                          </m:r>
                        </m:e>
                      </m:acc>
                      <m:r>
                        <m:t xml:space="preserve">−</m:t>
                      </m:r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ot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6" name=""/>
          <p:cNvSpPr/>
          <p:nvPr/>
        </p:nvSpPr>
        <p:spPr>
          <a:xfrm>
            <a:off x="466560" y="1260360"/>
            <a:ext cx="749952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bot moves from           to           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dometry information                          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747960" y="1241280"/>
                <a:ext cx="106380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211720" y="1241280"/>
                <a:ext cx="126216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',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',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e/>
                      <m:e>
                        <m:r>
                          <m:t xml:space="preserve">'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316400" y="1714680"/>
                <a:ext cx="28591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t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t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an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50" name=""/>
          <p:cNvGrpSpPr/>
          <p:nvPr/>
        </p:nvGrpSpPr>
        <p:grpSpPr>
          <a:xfrm>
            <a:off x="2108160" y="3683160"/>
            <a:ext cx="6718320" cy="2298600"/>
            <a:chOff x="2108160" y="3683160"/>
            <a:chExt cx="6718320" cy="2298600"/>
          </a:xfrm>
        </p:grpSpPr>
        <p:grpSp>
          <p:nvGrpSpPr>
            <p:cNvPr id="151" name=""/>
            <p:cNvGrpSpPr/>
            <p:nvPr/>
          </p:nvGrpSpPr>
          <p:grpSpPr>
            <a:xfrm>
              <a:off x="2108160" y="3683160"/>
              <a:ext cx="6718320" cy="2298600"/>
              <a:chOff x="2108160" y="3683160"/>
              <a:chExt cx="6718320" cy="2298600"/>
            </a:xfrm>
          </p:grpSpPr>
          <p:sp>
            <p:nvSpPr>
              <p:cNvPr id="152" name=""/>
              <p:cNvSpPr/>
              <p:nvPr/>
            </p:nvSpPr>
            <p:spPr>
              <a:xfrm flipV="1">
                <a:off x="7315200" y="3683160"/>
                <a:ext cx="851040" cy="977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705040" y="5486400"/>
                <a:ext cx="14731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108160" y="4940280"/>
                <a:ext cx="1079640" cy="1041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666880" y="5460840"/>
                <a:ext cx="507960" cy="140040"/>
              </a:xfrm>
              <a:prstGeom prst="line">
                <a:avLst/>
              </a:prstGeom>
              <a:ln w="50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730920" y="4152960"/>
                <a:ext cx="1079640" cy="1041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7289640" y="4292640"/>
                <a:ext cx="343080" cy="380880"/>
              </a:xfrm>
              <a:prstGeom prst="line">
                <a:avLst/>
              </a:prstGeom>
              <a:ln w="50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2692440" y="4419720"/>
                <a:ext cx="6134040" cy="1041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9" name=""/>
                  <p:cNvSpPr txBox="1"/>
                  <p:nvPr/>
                </p:nvSpPr>
                <p:spPr>
                  <a:xfrm>
                    <a:off x="5073480" y="4971960"/>
                    <a:ext cx="750960" cy="540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an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0" name=""/>
                  <p:cNvSpPr txBox="1"/>
                  <p:nvPr/>
                </p:nvSpPr>
                <p:spPr>
                  <a:xfrm>
                    <a:off x="3467160" y="5226120"/>
                    <a:ext cx="660240" cy="539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t</m:t>
                            </m:r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1" name=""/>
                  <p:cNvSpPr txBox="1"/>
                  <p:nvPr/>
                </p:nvSpPr>
                <p:spPr>
                  <a:xfrm>
                    <a:off x="7859880" y="3968640"/>
                    <a:ext cx="690480" cy="540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t</m:t>
                            </m:r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2198520" y="5140440"/>
                  <a:ext cx="644760" cy="32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⟨"/>
                          <m:endChr m:val="⟩"/>
                        </m:dPr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,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y</m:t>
                              </m:r>
                            </m:e>
                          </m:acc>
                          <m:r>
                            <m:t xml:space="preserve">,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6926400" y="4734000"/>
                  <a:ext cx="788760" cy="33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⟨"/>
                          <m:endChr m:val="⟩"/>
                        </m:dPr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rPr>
                              <m:lit/>
                              <m:nor/>
                            </m:rPr>
                            <m:t xml:space="preserve">', {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y</m:t>
                              </m:r>
                            </m:e>
                          </m:acc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', {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e/>
                        <m:e>
                          <m:r>
                            <m:t xml:space="preserve">'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8752-1CEE-431D-B14D-619A7B0E51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The atan2 Function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466560" y="1260360"/>
            <a:ext cx="80456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ds the inverse tangent and correctly copes with the signs of x and 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38080" y="2781360"/>
            <a:ext cx="8026560" cy="130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16AC-3A94-4AB9-81E7-9C3FD5572B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Noise Model for Odometry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easured motion is given by the true motion corrupted with nois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84120" y="5842080"/>
            <a:ext cx="6880320" cy="404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082520" y="2819520"/>
            <a:ext cx="6915240" cy="227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19DB-666C-4B18-A813-8A37E2D588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59400"/>
            <a:ext cx="8425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Typical Distributions for Probabilistic Motion Model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129280" y="2347920"/>
            <a:ext cx="3672000" cy="2355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58800" y="2340000"/>
            <a:ext cx="3614760" cy="2371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168560" y="5153040"/>
                <a:ext cx="25970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472000" y="4948200"/>
                <a:ext cx="298476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|</m:t>
                              </m:r>
                              <m:r>
                                <m:t xml:space="preserve">x</m:t>
                              </m:r>
                              <m:r>
                                <m:t xml:space="preserve">|</m:t>
                              </m:r>
                              <m:r>
                                <m:t xml:space="preserve">&gt;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6</m:t>
                                  </m:r>
                                  <m:s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rad>
                            </m:e>
                          </m:mr>
                          <m:mr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6</m:t>
                                      </m:r>
                                      <m:sSup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e>
                                  </m:rad>
                                  <m:r>
                                    <m:t xml:space="preserve">−</m:t>
                                  </m:r>
                                  <m:r>
                                    <m:t xml:space="preserve">|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|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  <m:s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963000" y="1554120"/>
            <a:ext cx="3004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56720" y="1554120"/>
            <a:ext cx="3414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iangula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8BC7-C1AF-4E79-A61A-A8B55E53D9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49160" y="1247760"/>
            <a:ext cx="6755040" cy="53182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59400"/>
            <a:ext cx="8425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alculating the Posterior </a:t>
            </a:r>
            <a:br>
              <a:rPr sz="3600"/>
            </a:b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Given x, x’, and u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180040" y="2426760"/>
            <a:ext cx="3572280" cy="546480"/>
            <a:chOff x="5180040" y="2426760"/>
            <a:chExt cx="3572280" cy="546480"/>
          </a:xfrm>
        </p:grpSpPr>
        <p:sp>
          <p:nvSpPr>
            <p:cNvPr id="181" name=""/>
            <p:cNvSpPr/>
            <p:nvPr/>
          </p:nvSpPr>
          <p:spPr>
            <a:xfrm>
              <a:off x="6198840" y="2482560"/>
              <a:ext cx="255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odometry values (u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230800" y="2706480"/>
              <a:ext cx="876240" cy="26676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5180040" y="2701800"/>
              <a:ext cx="922320" cy="1728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5218200" y="2426760"/>
              <a:ext cx="884160" cy="26820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5132520" y="3750840"/>
            <a:ext cx="3810960" cy="546480"/>
            <a:chOff x="5132520" y="3750840"/>
            <a:chExt cx="3810960" cy="546480"/>
          </a:xfrm>
        </p:grpSpPr>
        <p:sp>
          <p:nvSpPr>
            <p:cNvPr id="186" name=""/>
            <p:cNvSpPr/>
            <p:nvPr/>
          </p:nvSpPr>
          <p:spPr>
            <a:xfrm>
              <a:off x="5915880" y="3806640"/>
              <a:ext cx="302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values of interest (x,x’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183280" y="4030560"/>
              <a:ext cx="876240" cy="26676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5132520" y="4025880"/>
              <a:ext cx="922320" cy="1728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flipV="1">
              <a:off x="5170680" y="3750840"/>
              <a:ext cx="884160" cy="26820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7E75-A1AD-40D9-9FB0-8E7FD64A40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97920"/>
            <a:ext cx="8425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alculating the Probability (zero-centered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1280" y="158544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normal dis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triangular dis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1068480" y="2335320"/>
            <a:ext cx="670860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Algorithm </a:t>
            </a:r>
            <a:r>
              <a:rPr b="1" lang="en-US" sz="2000" spc="-1" strike="noStrike">
                <a:solidFill>
                  <a:srgbClr val="0033cc"/>
                </a:solidFill>
                <a:latin typeface="Verdana"/>
              </a:rPr>
              <a:t>prob_normal_distribu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retur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55520" y="4989600"/>
            <a:ext cx="7496280" cy="15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Algorithm </a:t>
            </a:r>
            <a:r>
              <a:rPr b="1" lang="en-US" sz="2000" spc="-1" strike="noStrike">
                <a:solidFill>
                  <a:srgbClr val="0033cc"/>
                </a:solidFill>
                <a:latin typeface="Verdana"/>
              </a:rPr>
              <a:t>prob_triangular_distribu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retur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836800" y="3019320"/>
            <a:ext cx="2828880" cy="7686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838600" y="5681520"/>
            <a:ext cx="2914560" cy="75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BD52-D83A-4C21-BDC5-AB7F13F8A8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72000" y="388620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Application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ed application of the sensor model for short moveme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ical banana-shaped distributions obtained for 2d-projection of 3d posteri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557360" y="4487760"/>
            <a:ext cx="2243160" cy="2332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469160" y="524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62400" y="5557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93480" y="3513240"/>
            <a:ext cx="13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|u,x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45560" y="582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35960" y="5241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2120" y="4116240"/>
            <a:ext cx="774720" cy="97812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48040" y="4091040"/>
            <a:ext cx="2222640" cy="129528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1037-EA93-4878-AD2E-BF3E61371F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160" y="264960"/>
            <a:ext cx="9034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Sample-based Density Representation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35040" y="1357200"/>
            <a:ext cx="7861320" cy="479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7C06-C239-4F3D-9DEB-05D8130F79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160" y="264960"/>
            <a:ext cx="9034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Sample-based Density Representation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44400" y="1359000"/>
            <a:ext cx="7844040" cy="4782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163D-03EA-4CCB-A734-BC09FBDF3E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97920"/>
            <a:ext cx="8425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How to Sample from Normal or Triangular Distributions?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1280" y="158544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ing from a normal dis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ing from a triangular dis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068480" y="2335320"/>
            <a:ext cx="6708600" cy="1560240"/>
            <a:chOff x="1068480" y="2335320"/>
            <a:chExt cx="6708600" cy="1560240"/>
          </a:xfrm>
        </p:grpSpPr>
        <p:sp>
          <p:nvSpPr>
            <p:cNvPr id="214" name=""/>
            <p:cNvSpPr/>
            <p:nvPr/>
          </p:nvSpPr>
          <p:spPr>
            <a:xfrm>
              <a:off x="1068480" y="2335320"/>
              <a:ext cx="6708600" cy="15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20000"/>
                </a:lnSpc>
                <a:spcBef>
                  <a:spcPts val="499"/>
                </a:spcBef>
                <a:buClr>
                  <a:srgbClr val="0033cc"/>
                </a:buClr>
                <a:buFont typeface="Verdan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Verdana"/>
                </a:rPr>
                <a:t>Algorithm </a:t>
              </a:r>
              <a:r>
                <a:rPr b="1" lang="en-US" sz="2000" spc="-1" strike="noStrike">
                  <a:solidFill>
                    <a:srgbClr val="0033cc"/>
                  </a:solidFill>
                  <a:latin typeface="Verdana"/>
                </a:rPr>
                <a:t>sample_normal_distribu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)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20000"/>
                </a:lnSpc>
                <a:spcBef>
                  <a:spcPts val="499"/>
                </a:spcBef>
                <a:buClr>
                  <a:srgbClr val="0033cc"/>
                </a:buClr>
                <a:buFont typeface="Verdan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Verdana"/>
                </a:rPr>
                <a:t>return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1"/>
            <a:stretch/>
          </p:blipFill>
          <p:spPr>
            <a:xfrm>
              <a:off x="2882880" y="2997360"/>
              <a:ext cx="2260800" cy="80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"/>
          <p:cNvSpPr/>
          <p:nvPr/>
        </p:nvSpPr>
        <p:spPr>
          <a:xfrm>
            <a:off x="1055520" y="4989600"/>
            <a:ext cx="7496280" cy="15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Algorithm </a:t>
            </a:r>
            <a:r>
              <a:rPr b="1" lang="en-US" sz="2000" spc="-1" strike="noStrike">
                <a:solidFill>
                  <a:srgbClr val="0033cc"/>
                </a:solidFill>
                <a:latin typeface="Verdana"/>
              </a:rPr>
              <a:t>sample_triangular_distribu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retur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2778120" y="5699160"/>
            <a:ext cx="4222800" cy="66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5680-4890-466F-8DDD-D6A93DA06A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Robot Motion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734000" y="2598840"/>
            <a:ext cx="4052880" cy="3522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85640" y="3381480"/>
            <a:ext cx="3670560" cy="26510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11280" y="1306440"/>
            <a:ext cx="8410320" cy="47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bot motion is inherently uncert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can we model this uncertain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7FFB-54E3-4357-BCD8-38647DF226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35388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Normally Distributed Sampl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4112280" y="6013440"/>
            <a:ext cx="15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6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754280" y="1461960"/>
            <a:ext cx="585000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C195-91B3-40D9-9048-718FEC780A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30312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For Triangular Distribution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763560" y="1119240"/>
            <a:ext cx="3071880" cy="2709720"/>
            <a:chOff x="763560" y="1119240"/>
            <a:chExt cx="3071880" cy="2709720"/>
          </a:xfrm>
        </p:grpSpPr>
        <p:pic>
          <p:nvPicPr>
            <p:cNvPr id="223" name="" descr=""/>
            <p:cNvPicPr/>
            <p:nvPr/>
          </p:nvPicPr>
          <p:blipFill>
            <a:blip r:embed="rId1"/>
            <a:stretch/>
          </p:blipFill>
          <p:spPr>
            <a:xfrm>
              <a:off x="763560" y="1119240"/>
              <a:ext cx="3071880" cy="23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1496160" y="3460680"/>
              <a:ext cx="158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Verdana"/>
                </a:rPr>
                <a:t>3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106960" y="1157400"/>
            <a:ext cx="3016440" cy="2709720"/>
            <a:chOff x="5106960" y="1157400"/>
            <a:chExt cx="3016440" cy="2709720"/>
          </a:xfrm>
        </p:grpSpPr>
        <p:pic>
          <p:nvPicPr>
            <p:cNvPr id="226" name="" descr=""/>
            <p:cNvPicPr/>
            <p:nvPr/>
          </p:nvPicPr>
          <p:blipFill>
            <a:blip r:embed="rId2"/>
            <a:stretch/>
          </p:blipFill>
          <p:spPr>
            <a:xfrm>
              <a:off x="5106960" y="1157400"/>
              <a:ext cx="3016440" cy="23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5928480" y="3498840"/>
              <a:ext cx="158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Verdana"/>
                </a:rPr>
                <a:t>4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106960" y="4002120"/>
            <a:ext cx="3071880" cy="2722680"/>
            <a:chOff x="5106960" y="4002120"/>
            <a:chExt cx="3071880" cy="2722680"/>
          </a:xfrm>
        </p:grpSpPr>
        <p:pic>
          <p:nvPicPr>
            <p:cNvPr id="229" name="" descr=""/>
            <p:cNvPicPr/>
            <p:nvPr/>
          </p:nvPicPr>
          <p:blipFill>
            <a:blip r:embed="rId3"/>
            <a:stretch/>
          </p:blipFill>
          <p:spPr>
            <a:xfrm>
              <a:off x="5106960" y="4002120"/>
              <a:ext cx="3071880" cy="23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5941080" y="6356520"/>
              <a:ext cx="158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Verdana"/>
                </a:rPr>
                <a:t>6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50960" y="4027320"/>
            <a:ext cx="3071880" cy="2710080"/>
            <a:chOff x="750960" y="4027320"/>
            <a:chExt cx="3071880" cy="2710080"/>
          </a:xfrm>
        </p:grpSpPr>
        <p:pic>
          <p:nvPicPr>
            <p:cNvPr id="232" name="" descr=""/>
            <p:cNvPicPr/>
            <p:nvPr/>
          </p:nvPicPr>
          <p:blipFill>
            <a:blip r:embed="rId4"/>
            <a:stretch/>
          </p:blipFill>
          <p:spPr>
            <a:xfrm>
              <a:off x="750960" y="4027320"/>
              <a:ext cx="3071880" cy="235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521360" y="6369120"/>
              <a:ext cx="158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Verdana"/>
                </a:rPr>
                <a:t>5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EFAD-771D-4B11-AFC3-7A9506015A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48096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Rejection Sampling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1280" y="158544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ing from arbitrary distrib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068480" y="2398680"/>
            <a:ext cx="6708600" cy="2476440"/>
            <a:chOff x="1068480" y="2398680"/>
            <a:chExt cx="6708600" cy="2476440"/>
          </a:xfrm>
        </p:grpSpPr>
        <p:sp>
          <p:nvSpPr>
            <p:cNvPr id="237" name=""/>
            <p:cNvSpPr/>
            <p:nvPr/>
          </p:nvSpPr>
          <p:spPr>
            <a:xfrm>
              <a:off x="1068480" y="2398680"/>
              <a:ext cx="6708600" cy="15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20000"/>
                </a:lnSpc>
                <a:spcBef>
                  <a:spcPts val="499"/>
                </a:spcBef>
                <a:buClr>
                  <a:srgbClr val="0033cc"/>
                </a:buClr>
                <a:buFont typeface="Verdana"/>
                <a:buAutoNum type="arabicPeriod"/>
                <a:tabLst>
                  <a:tab algn="l" pos="10922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Verdana"/>
                </a:rPr>
                <a:t>Algorithm </a:t>
              </a:r>
              <a:r>
                <a:rPr b="1" lang="en-US" sz="2000" spc="-1" strike="noStrike">
                  <a:solidFill>
                    <a:srgbClr val="0033cc"/>
                  </a:solidFill>
                  <a:latin typeface="Verdana"/>
                </a:rPr>
                <a:t>sample_distribu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,b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)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20000"/>
                </a:lnSpc>
                <a:spcBef>
                  <a:spcPts val="499"/>
                </a:spcBef>
                <a:buClr>
                  <a:srgbClr val="0033cc"/>
                </a:buClr>
                <a:buFont typeface="Verdana"/>
                <a:buAutoNum type="arabicPeriod"/>
                <a:tabLst>
                  <a:tab algn="l" pos="10922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Verdana"/>
                </a:rPr>
                <a:t>repe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20000"/>
                </a:lnSpc>
                <a:spcBef>
                  <a:spcPts val="499"/>
                </a:spcBef>
                <a:buClr>
                  <a:srgbClr val="0033cc"/>
                </a:buClr>
                <a:buFont typeface="Verdana"/>
                <a:buAutoNum type="arabicPeriod"/>
                <a:tabLst>
                  <a:tab algn="l" pos="10922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33cc"/>
                  </a:solidFill>
                  <a:latin typeface="Verdana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20000"/>
                </a:lnSpc>
                <a:spcBef>
                  <a:spcPts val="499"/>
                </a:spcBef>
                <a:buClr>
                  <a:srgbClr val="0033cc"/>
                </a:buClr>
                <a:buFont typeface="Verdana"/>
                <a:buAutoNum type="arabicPeriod"/>
                <a:tabLst>
                  <a:tab algn="l" pos="10922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20000"/>
                </a:lnSpc>
                <a:spcBef>
                  <a:spcPts val="499"/>
                </a:spcBef>
                <a:buClr>
                  <a:srgbClr val="0033cc"/>
                </a:buClr>
                <a:buFont typeface="Verdana"/>
                <a:buAutoNum type="arabicPeriod"/>
                <a:tabLst>
                  <a:tab algn="l" pos="10922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Verdana"/>
                </a:rPr>
                <a:t>until  (               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20000"/>
                </a:lnSpc>
                <a:spcBef>
                  <a:spcPts val="499"/>
                </a:spcBef>
                <a:buClr>
                  <a:srgbClr val="0033cc"/>
                </a:buClr>
                <a:buFont typeface="Verdana"/>
                <a:buAutoNum type="arabicPeriod"/>
                <a:tabLst>
                  <a:tab algn="l" pos="10922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Verdana"/>
                </a:rPr>
                <a:t>retur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2405160" y="3344760"/>
              <a:ext cx="5316480" cy="73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2"/>
            <a:stretch/>
          </p:blipFill>
          <p:spPr>
            <a:xfrm>
              <a:off x="2627280" y="4232160"/>
              <a:ext cx="1434960" cy="28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3"/>
            <a:stretch/>
          </p:blipFill>
          <p:spPr>
            <a:xfrm>
              <a:off x="2771640" y="4733640"/>
              <a:ext cx="169920" cy="1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20A6-6402-4C77-AA47-64EC2F1AD9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xample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1280" y="112824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ing from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892160" y="1828800"/>
            <a:ext cx="4965840" cy="8859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969920" y="2900520"/>
            <a:ext cx="4986360" cy="381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521C-92FD-4E4F-BDAC-D07C407CE3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Sample Odometry Motion Model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966960" y="1184400"/>
            <a:ext cx="7059600" cy="549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F6F5-E8D8-4B1E-9339-B1F57BB8036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199800"/>
            <a:ext cx="84250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Sampling from Our Motion Model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906560" y="1984320"/>
            <a:ext cx="5434200" cy="4324320"/>
            <a:chOff x="1906560" y="1984320"/>
            <a:chExt cx="5434200" cy="4324320"/>
          </a:xfrm>
        </p:grpSpPr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1906560" y="1984320"/>
              <a:ext cx="5434200" cy="4324320"/>
            </a:xfrm>
            <a:prstGeom prst="rect">
              <a:avLst/>
            </a:prstGeom>
            <a:ln w="9360">
              <a:solidFill>
                <a:srgbClr val="0033cc"/>
              </a:solidFill>
              <a:miter/>
            </a:ln>
          </p:spPr>
        </p:pic>
        <p:sp>
          <p:nvSpPr>
            <p:cNvPr id="250" name=""/>
            <p:cNvSpPr/>
            <p:nvPr/>
          </p:nvSpPr>
          <p:spPr>
            <a:xfrm>
              <a:off x="3017880" y="4689360"/>
              <a:ext cx="9777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1E71-F171-4BC6-8E03-9DD1BCD894F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xamples (Odometry-Based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03280" y="1173240"/>
            <a:ext cx="2298600" cy="23493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503280" y="4138560"/>
            <a:ext cx="2427120" cy="18306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6253200" y="1131840"/>
            <a:ext cx="2141640" cy="23907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253200" y="3949560"/>
            <a:ext cx="2065320" cy="2019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3247920" y="1351080"/>
            <a:ext cx="2578320" cy="21715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3247920" y="4280040"/>
            <a:ext cx="2578320" cy="168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45AB-5BDE-4781-B6EE-CDDB2344CB1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Velocity-Based Model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257480" y="1244520"/>
            <a:ext cx="64753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5E4C-69DB-4548-A5A7-3E74CB9E98B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quation for the Velocity Model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006560" y="2454120"/>
            <a:ext cx="6379920" cy="6908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121760" y="1641600"/>
            <a:ext cx="2785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ter of circ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181160" y="4067280"/>
            <a:ext cx="4583160" cy="7426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031760" y="3444840"/>
            <a:ext cx="898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D229-49A8-4DD8-A258-471ADCCC777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90040" y="-6840"/>
            <a:ext cx="8425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osterior Probability for Velocity Model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395280" y="1149480"/>
            <a:ext cx="7783560" cy="547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8A15-7CD7-4947-B9C7-0D95C17D176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110160"/>
            <a:ext cx="8534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Dynamic Bayesian Network for Controls, States, and Sensation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23800" y="1576440"/>
            <a:ext cx="8186760" cy="390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C656-B707-42B7-B754-7FA7FA3350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56988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Sampling from Velocity Model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357120" y="1789200"/>
            <a:ext cx="8139240" cy="424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5ACA-2A3C-4A6C-AC30-6FB7972078C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xamples (velocity based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54160" y="1212840"/>
            <a:ext cx="2568240" cy="21114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254160" y="4010040"/>
            <a:ext cx="2568240" cy="17971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3179880" y="1212840"/>
            <a:ext cx="2568600" cy="20001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6153120" y="4010040"/>
            <a:ext cx="2568600" cy="19177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5"/>
          <a:stretch/>
        </p:blipFill>
        <p:spPr>
          <a:xfrm>
            <a:off x="6153120" y="1212840"/>
            <a:ext cx="2568600" cy="21351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6"/>
          <a:stretch/>
        </p:blipFill>
        <p:spPr>
          <a:xfrm>
            <a:off x="3179880" y="4010040"/>
            <a:ext cx="2568600" cy="177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5EF7-198E-4265-B3A6-83CBA16F6C97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Map-Consistent Motion Model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52440" y="1258920"/>
            <a:ext cx="3941640" cy="4200480"/>
            <a:chOff x="352440" y="1258920"/>
            <a:chExt cx="3941640" cy="4200480"/>
          </a:xfrm>
        </p:grpSpPr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1531800" y="4971960"/>
                  <a:ext cx="161460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|</m:t>
                      </m:r>
                      <m:r>
                        <m:t xml:space="preserve">u</m:t>
                      </m:r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t xml:space="preserve">'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279" name="" descr=""/>
            <p:cNvPicPr/>
            <p:nvPr/>
          </p:nvPicPr>
          <p:blipFill>
            <a:blip r:embed="rId1"/>
            <a:stretch/>
          </p:blipFill>
          <p:spPr>
            <a:xfrm>
              <a:off x="352440" y="1258920"/>
              <a:ext cx="3941640" cy="359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0" name=""/>
          <p:cNvGrpSpPr/>
          <p:nvPr/>
        </p:nvGrpSpPr>
        <p:grpSpPr>
          <a:xfrm>
            <a:off x="3970080" y="1284120"/>
            <a:ext cx="4737240" cy="4184640"/>
            <a:chOff x="3970080" y="1284120"/>
            <a:chExt cx="4737240" cy="4184640"/>
          </a:xfrm>
        </p:grpSpPr>
        <p:pic>
          <p:nvPicPr>
            <p:cNvPr id="281" name="" descr=""/>
            <p:cNvPicPr/>
            <p:nvPr/>
          </p:nvPicPr>
          <p:blipFill>
            <a:blip r:embed="rId2"/>
            <a:stretch/>
          </p:blipFill>
          <p:spPr>
            <a:xfrm>
              <a:off x="4568760" y="1284120"/>
              <a:ext cx="4138560" cy="3735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2" name=""/>
            <p:cNvGrpSpPr/>
            <p:nvPr/>
          </p:nvGrpSpPr>
          <p:grpSpPr>
            <a:xfrm>
              <a:off x="3970080" y="4968720"/>
              <a:ext cx="3438720" cy="500040"/>
              <a:chOff x="3970080" y="4968720"/>
              <a:chExt cx="3438720" cy="500040"/>
            </a:xfrm>
          </p:grpSpPr>
          <mc:AlternateContent>
            <mc:Choice xmlns:a14="http://schemas.microsoft.com/office/drawing/2010/main" Requires="a14">
              <p:sp>
                <p:nvSpPr>
                  <p:cNvPr id="283" name=""/>
                  <p:cNvSpPr txBox="1"/>
                  <p:nvPr/>
                </p:nvSpPr>
                <p:spPr>
                  <a:xfrm>
                    <a:off x="5451480" y="4968720"/>
                    <a:ext cx="1957320" cy="474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',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84" name=""/>
              <p:cNvSpPr/>
              <p:nvPr/>
            </p:nvSpPr>
            <p:spPr>
              <a:xfrm>
                <a:off x="3970080" y="4991040"/>
                <a:ext cx="462600" cy="47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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5" name=""/>
          <p:cNvGrpSpPr/>
          <p:nvPr/>
        </p:nvGrpSpPr>
        <p:grpSpPr>
          <a:xfrm>
            <a:off x="622080" y="5834160"/>
            <a:ext cx="8275680" cy="485640"/>
            <a:chOff x="622080" y="5834160"/>
            <a:chExt cx="8275680" cy="485640"/>
          </a:xfrm>
        </p:grpSpPr>
        <mc:AlternateContent>
          <mc:Choice xmlns:a14="http://schemas.microsoft.com/office/drawing/2010/main" Requires="a14">
            <p:sp>
              <p:nvSpPr>
                <p:cNvPr id="286" name=""/>
                <p:cNvSpPr txBox="1"/>
                <p:nvPr/>
              </p:nvSpPr>
              <p:spPr>
                <a:xfrm>
                  <a:off x="3529080" y="5834160"/>
                  <a:ext cx="5368680" cy="4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|</m:t>
                      </m:r>
                      <m:r>
                        <m:t xml:space="preserve">u</m:t>
                      </m:r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rPr>
                          <m:lit/>
                          <m:nor/>
                        </m:rPr>
                        <m:t xml:space="preserve">',</m:t>
                      </m:r>
                      <m:r>
                        <m:t xml:space="preserve">m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η</m:t>
                      </m:r>
                      <m:r>
                        <m:t xml:space="preserve"> 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|</m:t>
                      </m:r>
                      <m:r>
                        <m:t xml:space="preserve">m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|</m:t>
                      </m:r>
                      <m:r>
                        <m:t xml:space="preserve">u</m:t>
                      </m:r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t xml:space="preserve">'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7" name=""/>
            <p:cNvSpPr/>
            <p:nvPr/>
          </p:nvSpPr>
          <p:spPr>
            <a:xfrm>
              <a:off x="622080" y="5835600"/>
              <a:ext cx="27640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pproximati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53FF-09C5-43F7-9110-ABEF7FA59CA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Summary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discussed motion models for odometry-based and velocity-based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discussed ways to calculate the posterior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x| x’, u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also described how to sample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x| x’, u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ypically the calculations are done in fixed time interval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practice, the parameters of the models have to be learn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also discussed an extended motion model that takes the map into accou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EE8B-4AE9-475B-ACB5-20F0A4F8D26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robabilistic Motion Model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0920" y="1306080"/>
            <a:ext cx="80168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implement the Bayes Filter, we need the transition mode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(x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x’, u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er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(x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x’, u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specifies a posterior probability, that ac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carries the robot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’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this section, we will specify how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(x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x’, u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can be modeled based on the motion equ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C36E-5D45-4CB0-B40E-D5E1E02BB7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oordinate System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0920" y="1306080"/>
            <a:ext cx="8010360" cy="29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general, the configuration of a robot can be described by six paramet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ee-dimensional cartesian coordinates plus three Euler angles pitch, roll, and til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oughout this section, we consider robots operating on a planar surfa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827600" y="3960720"/>
            <a:ext cx="4078440" cy="2422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09480" y="3997440"/>
            <a:ext cx="430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tate space of such systems is three-dimensional (x,y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4779-61EA-40E4-91D4-AF81932522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Typical Motion Model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51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practice, one often finds two types of motion mode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Odometry-b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Velocity-bas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dead reckon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4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dometry-based models are used when systems are equipped with wheel encod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4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locity-based models have to be applied when no wheel encoders are giv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4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calculate the new pose based on the velocities and the time elaps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A8E8-B0A5-40BF-AC3F-27DDDF3DFA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3132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xample Wheel Encoder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7360" y="1087560"/>
            <a:ext cx="3467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modules require +5V and GND to power them, and provide a 0 to 5V output. They provide +5V output when they "see" white, and a 0V output when they "see" black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848040" y="1338120"/>
            <a:ext cx="5133960" cy="1595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19240" y="3943440"/>
            <a:ext cx="4655880" cy="1911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068800" y="3802320"/>
            <a:ext cx="3732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disks are manufactured out of high quality laminated color plastic to offer a very crisp black to white transition. This enables a wheel encoder sensor to easily see the transi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0" y="6383160"/>
            <a:ext cx="3859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urce: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http://www.active-robots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1D4D-B0DF-446D-A27C-79579C197C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3132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Dead Reckoning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4600" y="1217160"/>
            <a:ext cx="841068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rived from “deduced reckoning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hematical procedure for determining the present location of a vehicl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hieved by calculating the current pose of the vehicle based on its velocities and the time elaps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5EBB-1AAC-45B1-8790-495A7DA310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Reasons for Motion Error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046880" y="3999240"/>
            <a:ext cx="2125440" cy="1828440"/>
            <a:chOff x="1046880" y="3999240"/>
            <a:chExt cx="2125440" cy="1828440"/>
          </a:xfrm>
        </p:grpSpPr>
        <p:grpSp>
          <p:nvGrpSpPr>
            <p:cNvPr id="109" name=""/>
            <p:cNvGrpSpPr/>
            <p:nvPr/>
          </p:nvGrpSpPr>
          <p:grpSpPr>
            <a:xfrm>
              <a:off x="1046880" y="3999240"/>
              <a:ext cx="2125440" cy="1261440"/>
              <a:chOff x="1046880" y="3999240"/>
              <a:chExt cx="2125440" cy="1261440"/>
            </a:xfrm>
          </p:grpSpPr>
          <p:sp>
            <p:nvSpPr>
              <p:cNvPr id="110" name=""/>
              <p:cNvSpPr/>
              <p:nvPr/>
            </p:nvSpPr>
            <p:spPr>
              <a:xfrm>
                <a:off x="1298160" y="5086080"/>
                <a:ext cx="206640" cy="114480"/>
              </a:xfrm>
              <a:custGeom>
                <a:avLst/>
                <a:gdLst/>
                <a:ahLst/>
                <a:rect l="l" t="t" r="r" b="b"/>
                <a:pathLst>
                  <a:path w="238" h="162">
                    <a:moveTo>
                      <a:pt x="4" y="120"/>
                    </a:moveTo>
                    <a:cubicBezTo>
                      <a:pt x="16" y="61"/>
                      <a:pt x="36" y="79"/>
                      <a:pt x="100" y="84"/>
                    </a:cubicBezTo>
                    <a:cubicBezTo>
                      <a:pt x="141" y="70"/>
                      <a:pt x="116" y="17"/>
                      <a:pt x="166" y="0"/>
                    </a:cubicBezTo>
                    <a:cubicBezTo>
                      <a:pt x="172" y="4"/>
                      <a:pt x="179" y="6"/>
                      <a:pt x="184" y="12"/>
                    </a:cubicBezTo>
                    <a:cubicBezTo>
                      <a:pt x="188" y="17"/>
                      <a:pt x="186" y="26"/>
                      <a:pt x="190" y="30"/>
                    </a:cubicBezTo>
                    <a:cubicBezTo>
                      <a:pt x="202" y="42"/>
                      <a:pt x="222" y="39"/>
                      <a:pt x="238" y="42"/>
                    </a:cubicBezTo>
                    <a:cubicBezTo>
                      <a:pt x="222" y="75"/>
                      <a:pt x="214" y="71"/>
                      <a:pt x="178" y="78"/>
                    </a:cubicBezTo>
                    <a:cubicBezTo>
                      <a:pt x="151" y="105"/>
                      <a:pt x="156" y="136"/>
                      <a:pt x="130" y="162"/>
                    </a:cubicBezTo>
                    <a:cubicBezTo>
                      <a:pt x="112" y="158"/>
                      <a:pt x="93" y="157"/>
                      <a:pt x="76" y="150"/>
                    </a:cubicBezTo>
                    <a:cubicBezTo>
                      <a:pt x="0" y="116"/>
                      <a:pt x="47" y="106"/>
                      <a:pt x="4" y="120"/>
                    </a:cubicBezTo>
                    <a:close/>
                  </a:path>
                </a:pathLst>
              </a:custGeom>
              <a:solidFill>
                <a:srgbClr val="000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" name=""/>
              <p:cNvGrpSpPr/>
              <p:nvPr/>
            </p:nvGrpSpPr>
            <p:grpSpPr>
              <a:xfrm>
                <a:off x="1046880" y="3999240"/>
                <a:ext cx="2125440" cy="1261440"/>
                <a:chOff x="1046880" y="3999240"/>
                <a:chExt cx="2125440" cy="1261440"/>
              </a:xfrm>
            </p:grpSpPr>
            <p:sp>
              <p:nvSpPr>
                <p:cNvPr id="112" name=""/>
                <p:cNvSpPr/>
                <p:nvPr/>
              </p:nvSpPr>
              <p:spPr>
                <a:xfrm rot="238200">
                  <a:off x="1047240" y="4581000"/>
                  <a:ext cx="2124000" cy="95400"/>
                </a:xfrm>
                <a:prstGeom prst="rect">
                  <a:avLst/>
                </a:prstGeom>
                <a:solidFill>
                  <a:srgbClr val="0000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rot="238200">
                  <a:off x="1249560" y="4008240"/>
                  <a:ext cx="304560" cy="114300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rot="238200">
                  <a:off x="2693520" y="4108320"/>
                  <a:ext cx="304920" cy="114300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5" name=""/>
            <p:cNvSpPr/>
            <p:nvPr/>
          </p:nvSpPr>
          <p:spPr>
            <a:xfrm>
              <a:off x="1510920" y="5349960"/>
              <a:ext cx="11682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bum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81000" y="1571760"/>
            <a:ext cx="2124000" cy="1760400"/>
            <a:chOff x="981000" y="1571760"/>
            <a:chExt cx="2124000" cy="1760400"/>
          </a:xfrm>
        </p:grpSpPr>
        <p:grpSp>
          <p:nvGrpSpPr>
            <p:cNvPr id="117" name=""/>
            <p:cNvGrpSpPr/>
            <p:nvPr/>
          </p:nvGrpSpPr>
          <p:grpSpPr>
            <a:xfrm>
              <a:off x="981000" y="1571760"/>
              <a:ext cx="2124000" cy="1143000"/>
              <a:chOff x="981000" y="1571760"/>
              <a:chExt cx="2124000" cy="1143000"/>
            </a:xfrm>
          </p:grpSpPr>
          <p:sp>
            <p:nvSpPr>
              <p:cNvPr id="118" name=""/>
              <p:cNvSpPr/>
              <p:nvPr/>
            </p:nvSpPr>
            <p:spPr>
              <a:xfrm>
                <a:off x="981000" y="2095560"/>
                <a:ext cx="2124000" cy="9540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81160" y="1571760"/>
                <a:ext cx="304560" cy="11430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628720" y="1571760"/>
                <a:ext cx="304920" cy="11430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1203120" y="2854440"/>
              <a:ext cx="18144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ideal ca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540040" y="1428840"/>
            <a:ext cx="2709000" cy="2207520"/>
            <a:chOff x="5540040" y="1428840"/>
            <a:chExt cx="2709000" cy="2207520"/>
          </a:xfrm>
        </p:grpSpPr>
        <p:sp>
          <p:nvSpPr>
            <p:cNvPr id="123" name=""/>
            <p:cNvSpPr/>
            <p:nvPr/>
          </p:nvSpPr>
          <p:spPr>
            <a:xfrm rot="228600">
              <a:off x="5667120" y="1952280"/>
              <a:ext cx="2124000" cy="946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67280" y="1428840"/>
              <a:ext cx="304920" cy="1142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15200" y="1495440"/>
              <a:ext cx="304920" cy="10756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40040" y="2689200"/>
              <a:ext cx="2709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different wheel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diame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619600" y="4305240"/>
            <a:ext cx="2181240" cy="1760400"/>
            <a:chOff x="5619600" y="4305240"/>
            <a:chExt cx="2181240" cy="1760400"/>
          </a:xfrm>
        </p:grpSpPr>
        <p:grpSp>
          <p:nvGrpSpPr>
            <p:cNvPr id="128" name=""/>
            <p:cNvGrpSpPr/>
            <p:nvPr/>
          </p:nvGrpSpPr>
          <p:grpSpPr>
            <a:xfrm>
              <a:off x="5638680" y="5410080"/>
              <a:ext cx="2162160" cy="162000"/>
              <a:chOff x="5638680" y="5410080"/>
              <a:chExt cx="2162160" cy="162000"/>
            </a:xfrm>
          </p:grpSpPr>
          <p:sp>
            <p:nvSpPr>
              <p:cNvPr id="129" name=""/>
              <p:cNvSpPr/>
              <p:nvPr/>
            </p:nvSpPr>
            <p:spPr>
              <a:xfrm>
                <a:off x="5648040" y="5410080"/>
                <a:ext cx="2143080" cy="1522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638680" y="5562360"/>
                <a:ext cx="2162160" cy="9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5619600" y="4305240"/>
              <a:ext cx="2124000" cy="1760400"/>
              <a:chOff x="5619600" y="4305240"/>
              <a:chExt cx="2124000" cy="176040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5619600" y="4305240"/>
                <a:ext cx="2124000" cy="1143000"/>
                <a:chOff x="5619600" y="4305240"/>
                <a:chExt cx="2124000" cy="11430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5619600" y="4829040"/>
                  <a:ext cx="2124000" cy="95400"/>
                </a:xfrm>
                <a:prstGeom prst="rect">
                  <a:avLst/>
                </a:prstGeom>
                <a:solidFill>
                  <a:srgbClr val="0000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819760" y="4305240"/>
                  <a:ext cx="304560" cy="114300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267320" y="4305240"/>
                  <a:ext cx="304920" cy="114300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" name=""/>
              <p:cNvSpPr/>
              <p:nvPr/>
            </p:nvSpPr>
            <p:spPr>
              <a:xfrm>
                <a:off x="6129000" y="5587920"/>
                <a:ext cx="1243080" cy="47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carpe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5829480" y="5495760"/>
              <a:ext cx="314280" cy="5724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67680" y="5495760"/>
              <a:ext cx="314280" cy="572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949680" y="6026040"/>
            <a:ext cx="3202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many more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CE11-3EAD-49AD-B5F5-A07D986FEB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3T15:49:16Z</dcterms:created>
  <dc:creator>SCS</dc:creator>
  <dc:description/>
  <dc:language>en-US</dc:language>
  <cp:lastModifiedBy>-</cp:lastModifiedBy>
  <dcterms:modified xsi:type="dcterms:W3CDTF">2010-08-23T12:23:21Z</dcterms:modified>
  <cp:revision>1435</cp:revision>
  <dc:subject/>
  <dc:title>Probabilistic Robotics</dc:title>
</cp:coreProperties>
</file>